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170227"/>
        <c:axId val="18200104"/>
      </c:barChart>
      <c:catAx>
        <c:axId val="631702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200104"/>
        <c:crosses val="autoZero"/>
        <c:auto val="1"/>
        <c:lblAlgn val="ctr"/>
        <c:lblOffset val="100"/>
        <c:noMultiLvlLbl val="0"/>
      </c:catAx>
      <c:valAx>
        <c:axId val="182001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1702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1421-414C-46A6-AB35-44BFC6535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1A72-9BEB-4E64-865D-3A56AAAD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BBA0-0E68-4A5C-9AFB-2072086A8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CBEE-67CB-455D-BC49-9AF8BCECE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18F3-CF16-46E3-A537-E81063BD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B526-03D4-4665-A5ED-8EE159FD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B4F0-8B7B-4511-A9D3-DF4B680C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F81D-AC51-4689-B2FB-3BF90C30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A20D-F0FD-4E8B-A508-FABE382E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C280-3BC9-4127-A082-065CA116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66BB-B7AB-493F-BB73-FC6AF6EF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C066-0B6D-4DA2-859C-44B9FB05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1C8D68-F7FD-4639-B91A-BC7DCC23B4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