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35668"/>
        <c:axId val="3950543"/>
      </c:barChart>
      <c:catAx>
        <c:axId val="441356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0543"/>
        <c:crosses val="autoZero"/>
        <c:auto val="1"/>
        <c:lblAlgn val="ctr"/>
        <c:lblOffset val="100"/>
        <c:noMultiLvlLbl val="0"/>
      </c:catAx>
      <c:valAx>
        <c:axId val="3950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356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DED1-2DD5-4AA9-8E8B-B81FB331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3BA-5AEF-467C-8961-C723D28B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4FC-B555-4345-A837-01F606AF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7EF-C12D-46B0-8ECF-82AF8496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B15-8E74-4D69-8781-5F08451A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F4D-6C4D-4DA6-B6F7-739B28C6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3BF-E68E-4E64-B0A4-5FDBD279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A4F3-6051-413C-AA56-DD26B10D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656-B8CE-4022-BB5F-F742EE78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0B8-86C6-4687-9A36-23CC4491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CC9E-56B3-43FB-B1BB-F27DC5B8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AE73-6729-4CFE-B973-7523172F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87CB0-9A0B-4CD1-8773-A3070D3008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