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92505"/>
        <c:axId val="65494351"/>
      </c:barChart>
      <c:catAx>
        <c:axId val="51192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94351"/>
        <c:crosses val="autoZero"/>
        <c:auto val="1"/>
        <c:lblAlgn val="ctr"/>
        <c:lblOffset val="100"/>
        <c:noMultiLvlLbl val="0"/>
      </c:catAx>
      <c:valAx>
        <c:axId val="65494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92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34E-E065-4100-A926-D5CBD726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CFE-2070-4365-942F-891859C1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0B1-0EE1-4290-BF21-ED96D230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EE1-9B59-40B5-B799-F289CA42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787-A293-49A8-B4FA-27373621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F7A-8B55-460D-9FF1-17C67E13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BA2-DB3E-40D8-9628-86ABAC1B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C1A-966A-482A-A333-7384501D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CD8-2EA3-4E08-ACF9-9595DF89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BFC-FA90-488D-AB0D-5495BF1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A14-534B-4620-AC26-A38B0AAE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AB1-AC62-46BC-83A5-7FB74AF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2C2ED-C415-42DA-B272-4E368D9071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