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982048"/>
        <c:axId val="36891490"/>
      </c:barChart>
      <c:catAx>
        <c:axId val="65982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91490"/>
        <c:crosses val="autoZero"/>
        <c:auto val="1"/>
        <c:lblAlgn val="ctr"/>
        <c:lblOffset val="100"/>
        <c:noMultiLvlLbl val="0"/>
      </c:catAx>
      <c:valAx>
        <c:axId val="368914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82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1FD-3F6E-4F7B-814B-277EB2F1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E0F7-5D10-42D4-ACDA-92A22829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35E-88D5-4713-9697-1CD5BE7E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560-2A88-4B58-A0D9-9FE46A09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CA52-13DD-49ED-9043-1CA4AAE8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454-6F65-4BC8-8D59-A6B845DD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224-BDBC-4166-A79B-26D213F3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FDA2-AB50-4573-B725-E0F14F5E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BE5-4C20-43C1-B324-4132D349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03F5-9032-4900-9943-1F9CE9FD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A3A-A53F-4F5F-9112-29D10B09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04B-942E-4769-8329-3DFBFEEE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1F75C-8666-46CF-8AFE-5802EC1338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