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6624"/>
        <c:axId val="46487502"/>
      </c:barChart>
      <c:catAx>
        <c:axId val="1646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87502"/>
        <c:crosses val="autoZero"/>
        <c:auto val="1"/>
        <c:lblAlgn val="ctr"/>
        <c:lblOffset val="100"/>
        <c:noMultiLvlLbl val="0"/>
      </c:catAx>
      <c:valAx>
        <c:axId val="46487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438-94A7-405C-B688-B1E5304B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315-7F29-4ACC-B3ED-9369F0D6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7E2-74D2-4F95-AE0F-70C87EAD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8B5-48A6-421D-A0DE-93071558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5F5-0715-4197-9432-C3B8253E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8C7-2EA3-413E-93CB-83B9077A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F7E-B833-4A36-B757-C2887F5E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998-A38A-4C29-B9D0-BF01BE29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B28-AB65-4F6E-91EA-68936B56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C6B-CF5D-4285-9426-698BB82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13F-134A-4C93-8235-379BF6D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BC4-5877-4BE8-8A17-22C537D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E51DB-EE10-4ECB-B7FF-B7518B8912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