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69893"/>
        <c:axId val="3052542"/>
      </c:barChart>
      <c:catAx>
        <c:axId val="84569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542"/>
        <c:crosses val="autoZero"/>
        <c:auto val="1"/>
        <c:lblAlgn val="ctr"/>
        <c:lblOffset val="100"/>
        <c:noMultiLvlLbl val="0"/>
      </c:catAx>
      <c:valAx>
        <c:axId val="3052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69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DCB-9CD5-46ED-907C-800539A8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B81-D591-48E8-BA6C-4F974F4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8F1-6418-486B-AEAD-AB122F5B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B09-2898-4179-8CAB-262E777B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007-058E-4498-8365-DAAF036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5FB-BA2B-4892-81EE-FB476CBA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66B-A14E-4288-8972-FB64873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DA2-DCF9-407A-A717-72457F7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771-6E2A-418C-8933-8C5C8AFC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B9E-5A6E-46B8-AD91-C35C1125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073-D0C6-41EA-BF04-D04381F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C77-4125-406C-A0FE-139F36B0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8321-82CE-4C36-9763-C1C7C8B0BC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