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03106"/>
        <c:axId val="13470959"/>
      </c:barChart>
      <c:catAx>
        <c:axId val="67903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70959"/>
        <c:crosses val="autoZero"/>
        <c:auto val="1"/>
        <c:lblAlgn val="ctr"/>
        <c:lblOffset val="100"/>
        <c:noMultiLvlLbl val="0"/>
      </c:catAx>
      <c:valAx>
        <c:axId val="13470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03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43E-E2F4-4A4C-B3FC-ABE92E66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8EE-9F7F-4021-9682-E0170623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CF3-1AB9-47CE-AE09-A1C29E72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5BB-77B2-4911-8F20-1BF0C0A3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FD7-BAFA-4EFE-8845-1D3F5699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357-5483-4B20-B03E-BCC453FC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992-C195-4863-8083-5E4B74EF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205-BADC-4DEE-AED5-1D444B19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E2E-7BB2-4F51-A0A1-6808B1BE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28F-D1B8-4F17-9965-DB38BB0D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B5D-797B-4D51-8025-C13FD3AB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708-716E-4067-A488-460065C3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B9BAC-A4BE-47BD-B467-35E01C329B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