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16149"/>
        <c:axId val="83961754"/>
      </c:barChart>
      <c:catAx>
        <c:axId val="69516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1754"/>
        <c:crosses val="autoZero"/>
        <c:auto val="1"/>
        <c:lblAlgn val="ctr"/>
        <c:lblOffset val="100"/>
        <c:noMultiLvlLbl val="0"/>
      </c:catAx>
      <c:valAx>
        <c:axId val="83961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6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AA9-284B-4648-8854-D1FBB9A3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E13-A64B-43A4-A151-20C62BC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56A-F814-4D23-859C-649D55DF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AB3-F7A1-4946-AE14-5BD1B91C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B5F-81ED-4A42-A3C9-B721753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15B-0E93-4A92-B17A-CE0D8B90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F79-D9CB-47E6-9212-FD510676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BEB-CFAD-4065-B138-0927B19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4EC-ABFB-4E86-8586-B44D0CF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0C9-EC42-4E7D-B50E-342EFE4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4A4-A54D-4F6D-9575-FE04F21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6B1-0E76-4328-B57B-97B9A0E7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25141-915C-4BF4-97E1-EC1B4D8B3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