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7199"/>
        <c:axId val="49927372"/>
      </c:barChart>
      <c:catAx>
        <c:axId val="12177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27372"/>
        <c:crosses val="autoZero"/>
        <c:auto val="1"/>
        <c:lblAlgn val="ctr"/>
        <c:lblOffset val="100"/>
        <c:noMultiLvlLbl val="0"/>
      </c:catAx>
      <c:valAx>
        <c:axId val="499273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7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CBE-52E1-4FDF-90D7-69A4BCA7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FAF-5546-4789-AEC7-C3B13CC6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50C-CD51-47B6-AB59-5AFBBFA1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26C-C65E-40FF-8D2D-4E856A4D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165-61FC-4369-A14B-85BBF00E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9E0-187C-41EC-A306-72F0DF00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974-40B8-48E5-9D10-B005AAA6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50F-62AE-4F44-AE3C-EC30614A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DCF-77A9-447A-9958-56657B88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1EB-064E-4BD6-A55D-A023D8A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A80-FE2B-44F8-8D7A-B876240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7DF-A8CF-4BE0-ACC6-F777C780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2721F-B1C2-41B5-A061-41C3E4CC3B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