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95561"/>
        <c:axId val="82288506"/>
      </c:barChart>
      <c:catAx>
        <c:axId val="92295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8506"/>
        <c:crosses val="autoZero"/>
        <c:auto val="1"/>
        <c:lblAlgn val="ctr"/>
        <c:lblOffset val="100"/>
        <c:noMultiLvlLbl val="0"/>
      </c:catAx>
      <c:valAx>
        <c:axId val="82288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95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456-FFAF-44A3-835B-025D6E78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104-F4AA-45C3-BDF9-F3DD0CCF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DC3-C654-42AE-8CBF-352E2B2E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AF9-D54F-4234-BD5E-3C4BB2B0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6D0-D281-41EF-9F37-4528594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17D-0F92-42FD-A5DB-BC541B7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318-3F82-46B6-9447-63F3CD7A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AEC-C334-4245-8F5C-17BBE31D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6FD-E06B-4374-8415-926F1ABA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672-05BF-4C23-9F63-CDD4E3D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CF3-5BB8-4CB5-8DBB-F2992C45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329-0548-4300-BB17-D3BD0AD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330CA-1BAE-44B7-94A3-773B609577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