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83992"/>
        <c:axId val="68657871"/>
      </c:barChart>
      <c:catAx>
        <c:axId val="65983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7871"/>
        <c:crosses val="autoZero"/>
        <c:auto val="1"/>
        <c:lblAlgn val="ctr"/>
        <c:lblOffset val="100"/>
        <c:noMultiLvlLbl val="0"/>
      </c:catAx>
      <c:valAx>
        <c:axId val="68657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3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D16-6F54-4DE0-B064-D5815B4D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EBD-F4A4-4097-8501-AAB6583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449-BD14-4405-8FFF-C9200304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BF4-087E-4709-9439-749A51DF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CB5-30AD-4665-9A98-5E15A174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119-6FE0-4D4A-AA35-D282F10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A3C-F7ED-420A-B75E-F967028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E2-F4F2-42E5-AE63-B8FAB30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B31-7810-4B91-9A9E-5D4D5FA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8FE-136D-49C5-AAD4-F3AD774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FE6-03D8-4B60-A6D0-085E446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DE0-4D9B-4B06-9300-C72BAC2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42DC6-2E7B-4E4E-92C2-6A6A2066A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