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14111"/>
        <c:axId val="15434424"/>
      </c:barChart>
      <c:catAx>
        <c:axId val="14914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34424"/>
        <c:crosses val="autoZero"/>
        <c:auto val="1"/>
        <c:lblAlgn val="ctr"/>
        <c:lblOffset val="100"/>
        <c:noMultiLvlLbl val="0"/>
      </c:catAx>
      <c:valAx>
        <c:axId val="15434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14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C5B-6C15-4E0B-93E7-B3B524BE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81A-5A80-47E4-8C78-79CA60D8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3E2-1768-408C-BD5C-195DA498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EBA-552E-49FE-B1EE-3F751E91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B5B-0924-41AF-A9F8-212D358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6C8-9414-4648-AF84-0317A5A4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B80-9BF3-40DC-BBAD-2B197946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197-B61F-4E16-AF44-AEB41D8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BBB-AB16-4016-BFA8-A60F9B69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518-1154-48C0-8D3A-E932B0F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0FC-36CA-4D28-BC22-60D740F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F9B-9B7C-46E4-8CCB-4583E4E8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B7802-3EA3-4902-94B5-DF814DBA0F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