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45088"/>
        <c:axId val="5917637"/>
      </c:barChart>
      <c:catAx>
        <c:axId val="40445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7637"/>
        <c:crosses val="autoZero"/>
        <c:auto val="1"/>
        <c:lblAlgn val="ctr"/>
        <c:lblOffset val="100"/>
        <c:noMultiLvlLbl val="0"/>
      </c:catAx>
      <c:valAx>
        <c:axId val="5917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45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690-33D5-4942-9FEC-DC27AFB5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A58-5BDE-4A25-A729-3678974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067-E0D2-468F-B31F-A19291CE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E3F-6FB9-4BE9-A6FD-FE4A2E5D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C83-03E6-4E18-BDB0-C49E6A7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502-0A05-4D25-A1F6-E3E1702F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462-F93A-45C0-87D2-FCD12C2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99B-2078-414A-A273-A90C3FAC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E39-53FE-4D49-A498-390C7CBA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B6A-D72F-46CC-9664-2CF5CDE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047-E2FD-4CA0-9797-099EEC5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4A7-48A2-496A-8228-D0C66BD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CB07B-6CE2-4DD6-ABA0-C31FF49EB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