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21661"/>
        <c:axId val="80458132"/>
      </c:barChart>
      <c:catAx>
        <c:axId val="745216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58132"/>
        <c:crosses val="autoZero"/>
        <c:auto val="1"/>
        <c:lblAlgn val="ctr"/>
        <c:lblOffset val="100"/>
        <c:noMultiLvlLbl val="0"/>
      </c:catAx>
      <c:valAx>
        <c:axId val="804581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216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C071-CEFC-4E6E-AC47-237DCDCA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7C6-ED28-416E-A105-13252068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AA69-CB19-4485-A388-EA9CBB1F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462-D45B-4268-A818-785EB379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A861-E3F6-41B7-9F4B-26CD7F77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ACE-4A12-4E83-9991-EF6C5110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EDD9-D8C7-457C-BFFD-AE93AAD9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A3E3-24A2-4949-AA55-0FBC3568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D10-53BB-4FAE-B1E0-4F077B60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C86-E3DE-4254-B944-0339E3E9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5BD-2DD8-4EE5-9ED6-FE510041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885-CF79-4B8A-85CA-93F38269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F9DE1-3EBE-4ED8-ABAD-F28D1119E0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