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67621"/>
        <c:axId val="73339966"/>
      </c:barChart>
      <c:catAx>
        <c:axId val="39067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39966"/>
        <c:crosses val="autoZero"/>
        <c:auto val="1"/>
        <c:lblAlgn val="ctr"/>
        <c:lblOffset val="100"/>
        <c:noMultiLvlLbl val="0"/>
      </c:catAx>
      <c:valAx>
        <c:axId val="73339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67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4E3-C7F8-4894-B7AC-60B894C7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934-EF79-4D48-86E3-A8C8EC85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FB3-282B-4CCB-8D4F-80CEF474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AD3-CAEF-4698-81C2-E073CD63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9E0-CF4A-4181-AF46-8C6185AD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519-3120-46CB-9E83-62157A89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426-65EB-44EE-8DD1-4BDAFA48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731-07B6-4E45-B6AC-85E9B5C9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427-A2A6-4484-8F93-38F6D3FB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89F-FFA5-4238-95B2-EC933F28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D59-134D-452D-8625-EA399131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301-1E43-4714-B8BC-E1C3BEB0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CD04E-D88F-42BD-A060-9EB0F755BB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