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2686"/>
        <c:axId val="51343450"/>
      </c:barChart>
      <c:catAx>
        <c:axId val="9912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3450"/>
        <c:crosses val="autoZero"/>
        <c:auto val="1"/>
        <c:lblAlgn val="ctr"/>
        <c:lblOffset val="100"/>
        <c:noMultiLvlLbl val="0"/>
      </c:catAx>
      <c:valAx>
        <c:axId val="51343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BE6-6AE4-4133-8422-0C050C6A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50A-1B49-46CC-90D3-778FF00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B31-44F2-4FAF-A346-010318AA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864-63A4-40F9-9E83-4DAC54A2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5E4-BA08-4618-B079-2EA65E0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057-12BB-404D-8C5B-ACDDB33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FE4-93BA-4A5B-92BA-98C45E0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777-524A-4F48-9662-DA2B98B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C91-D961-4D56-936B-1EE4124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2C9-0367-43D0-AED6-EF323EE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94B-80C6-45E6-806F-7416504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FC8-4D08-4D27-8C34-E16514D7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5676-C034-4438-9070-F7468F6FBA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